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10080625" cy="7559675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6765840" cy="9867960"/>
          </a:xfrm>
          <a:custGeom>
            <a:avLst/>
            <a:gdLst>
              <a:gd name="textAreaLeft" fmla="*/ 360 w 6765840"/>
              <a:gd name="textAreaRight" fmla="*/ 6765480 w 6765840"/>
              <a:gd name="textAreaTop" fmla="*/ 360 h 9867960"/>
              <a:gd name="textAreaBottom" fmla="*/ 9867600 h 9867960"/>
            </a:gdLst>
            <a:ahLst/>
            <a:rect l="textAreaLeft" t="textAreaTop" r="textAreaRight" b="textAreaBottom"/>
            <a:pathLst>
              <a:path w="21600" h="31503">
                <a:moveTo>
                  <a:pt x="4" y="0"/>
                </a:moveTo>
                <a:arcTo wR="4" hR="4" stAng="16200000" swAng="-5400000"/>
                <a:lnTo>
                  <a:pt x="0" y="31499"/>
                </a:lnTo>
                <a:arcTo wR="4" hR="4" stAng="10800000" swAng="-5400000"/>
                <a:lnTo>
                  <a:pt x="21596" y="3150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915480" y="749160"/>
            <a:ext cx="4929480" cy="369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676080" y="4686120"/>
            <a:ext cx="54082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-360" y="0"/>
            <a:ext cx="2932200" cy="48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4"/>
          </p:nvPr>
        </p:nvSpPr>
        <p:spPr>
          <a:xfrm>
            <a:off x="-36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5"/>
          </p:nvPr>
        </p:nvSpPr>
        <p:spPr>
          <a:xfrm>
            <a:off x="3828600" y="9373680"/>
            <a:ext cx="2932200" cy="48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AE506C-E7F9-48DB-826B-B7CEC00D934D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dt" idx="6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83160" rIns="83160" tIns="41760" bIns="4176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Arial"/>
              </a:rPr>
              <a:t>11.12.2009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F284F5-0DCF-4655-AD60-22B8863FE02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4E74F5-B881-4E37-867E-82498E0E6367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CF9C9F-80E3-4994-9F08-FDC4125B1AEF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6BCD6-CFDF-45EE-9854-023D2213BD13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ADEFA0-4DE4-4D65-AB04-696BAE17AC2C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AB84EDE-08C5-43EA-8A77-2F647A607E9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5DED38-E1A4-420C-AE01-CDB4BED1BF8E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725B9-F847-4238-ACB6-7C79CB15A9D1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8"/>
          <p:cNvSpPr/>
          <p:nvPr/>
        </p:nvSpPr>
        <p:spPr>
          <a:xfrm>
            <a:off x="3828960" y="9374040"/>
            <a:ext cx="2932200" cy="4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4800"/>
                <a:tab algn="l" pos="2454120"/>
                <a:tab algn="l" pos="2863800"/>
                <a:tab algn="l" pos="3273480"/>
                <a:tab algn="l" pos="3683160"/>
                <a:tab algn="l" pos="4091040"/>
                <a:tab algn="l" pos="4500720"/>
                <a:tab algn="l" pos="4910040"/>
                <a:tab algn="l" pos="5319720"/>
                <a:tab algn="l" pos="5729400"/>
                <a:tab algn="l" pos="6138720"/>
                <a:tab algn="l" pos="6548400"/>
                <a:tab algn="l" pos="6958080"/>
                <a:tab algn="l" pos="7367760"/>
                <a:tab algn="l" pos="7775640"/>
                <a:tab algn="l" pos="818532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A5FAE4-ECAC-46AF-A357-6DC4AC5A349A}" type="slidenum">
              <a:rPr b="0" lang="cs-CZ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"/>
          <p:cNvSpPr/>
          <p:nvPr/>
        </p:nvSpPr>
        <p:spPr>
          <a:xfrm>
            <a:off x="990720" y="750960"/>
            <a:ext cx="4782960" cy="369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body"/>
          </p:nvPr>
        </p:nvSpPr>
        <p:spPr>
          <a:xfrm>
            <a:off x="676440" y="4686120"/>
            <a:ext cx="5410080" cy="443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CDC6-AAC7-453C-993B-91D671695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05491-E0B5-4FE0-818F-77B8CF884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F4B12-ED8C-4521-A418-919206B80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FD2D-DD39-4CF1-B72B-BBE4997242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D7E5A-3A42-4B7A-B149-E471C7988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7C1B-4A8A-461E-A0E4-7E5F515E7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95F96-F73A-4DB4-BE01-CF551A2D9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76931-22FC-4C63-A7C4-984B14DF7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476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F3683-D71A-42BA-85E7-9786C0D86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122EF-7E69-4AD6-BF86-D8C5E9EF5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4CD40-AF2A-4145-B61C-EB7971BBA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4B8DC-A3E4-49F2-AF11-AE68CD845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58B57B0-39A6-47A9-A1AB-8764E9DD58B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simona.dvorac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1611000" y="1208160"/>
            <a:ext cx="8358120" cy="59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Calibri"/>
              </a:rPr>
              <a:t>Pravidla publicity projektu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Proč se zabývat publicitou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řízení Evropské komise (ES) č. 1828/2006: „…</a:t>
            </a:r>
            <a:r>
              <a:rPr b="0" i="1" lang="cs-CZ" sz="1800" spc="-1" strike="noStrike">
                <a:solidFill>
                  <a:srgbClr val="000000"/>
                </a:solidFill>
                <a:latin typeface="Arial"/>
              </a:rPr>
              <a:t>příjemce finanční podpory je povinen jasně informovat subjekty účastnící se projektu i širokou veřejnost , že projekt získal finanční prostředky v rámci operačního programu spolufinancovaného Evropským sociálním fondem (ESF)“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Šance využít tuto povinnost ke zviditelnění svého projektu a zároveň inspirovat ostatní potenciální žadatele o podpor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oskytnutí určité záruky kvality účastníkům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Zabránění problémům při kontrolách a audite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82640" y="279000"/>
            <a:ext cx="7886880" cy="9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Z čeho se publicita skládá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1682640" y="1351080"/>
            <a:ext cx="7886880" cy="600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formování a propagace projektu směrem k široké a odborné veřejnosti, EU, médiím, účastníkům projektu na všech materiálech a dokumentech souvisejících s projektem (výjimkou jsou účetní doklady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avidelné předkládání monitorovacích zpráv o průběhu realizace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ouhlas se začleněním na veřejně přístupný seznam příjem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ři propagaci projektů používáme loga (značky): Evropského sociálního fondu, Evropské unie, Ministerstva školství, mládeže a tělovýchovy a Operačního programu Vzdělávání pro konkurenceschopnos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Loga mají přesně vymezená pravidla použití a řazení (v rámci tzv. logolinku). Za logo OP VK může příjemce v logolinku přidat své logo a příp. logo partnera (!pozor! nikoliv logo projektu)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S logolinkem používáme i slogan: Investice do rozvoje vzdělávání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59" name="Obrázek 5" descr="Logolink_horizontal_zaklad_RGB.jpg"/>
          <p:cNvPicPr/>
          <p:nvPr/>
        </p:nvPicPr>
        <p:blipFill>
          <a:blip r:embed="rId2"/>
          <a:stretch/>
        </p:blipFill>
        <p:spPr>
          <a:xfrm>
            <a:off x="3254400" y="6066000"/>
            <a:ext cx="4929120" cy="120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682640" y="1279080"/>
            <a:ext cx="7886880" cy="564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utno dodržet nejmenší povolené velikosti log, předepsané barvy, ochranné zóny a další náležitosti dané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materiálech menšího rozměru lze loga uvést i bez textů (!pozor! logo EU vždy s textem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!pozor! vlajku ČR používá na svých materiálech pouze řídící orgá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alé propagační předměty (post-it, vizitka, flash disk, tužky,…): zkrácený logolink, možno i bez sloganu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a vybavení (vč. publikací, učebnic,…) pořízené z prostředků ESF: samolepky s logy (lze vynechat logo MŠMT), avšak nutno uvést slogan (povinné sdělení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3" name="Obrázek 4" descr="Logolink_horiz_zkraceny_bezTextu_RGB.jpg"/>
          <p:cNvPicPr/>
          <p:nvPr/>
        </p:nvPicPr>
        <p:blipFill>
          <a:blip r:embed="rId2"/>
          <a:stretch/>
        </p:blipFill>
        <p:spPr>
          <a:xfrm>
            <a:off x="7469280" y="5065560"/>
            <a:ext cx="2286000" cy="801720"/>
          </a:xfrm>
          <a:prstGeom prst="rect">
            <a:avLst/>
          </a:prstGeom>
          <a:ln w="0">
            <a:noFill/>
          </a:ln>
        </p:spPr>
      </p:pic>
      <p:pic>
        <p:nvPicPr>
          <p:cNvPr id="64" name="Obrázek 5" descr="Logolink_horiz_zkraceny_RGB.jpg"/>
          <p:cNvPicPr/>
          <p:nvPr/>
        </p:nvPicPr>
        <p:blipFill>
          <a:blip r:embed="rId3"/>
          <a:stretch/>
        </p:blipFill>
        <p:spPr>
          <a:xfrm>
            <a:off x="4754520" y="4637160"/>
            <a:ext cx="2214720" cy="955440"/>
          </a:xfrm>
          <a:prstGeom prst="rect">
            <a:avLst/>
          </a:prstGeom>
          <a:ln w="0">
            <a:noFill/>
          </a:ln>
        </p:spPr>
      </p:pic>
      <p:pic>
        <p:nvPicPr>
          <p:cNvPr id="65" name="Obrázek 6" descr="Logolink_horiz_zkraceny_text_RGB.jpg"/>
          <p:cNvPicPr/>
          <p:nvPr/>
        </p:nvPicPr>
        <p:blipFill>
          <a:blip r:embed="rId4"/>
          <a:stretch/>
        </p:blipFill>
        <p:spPr>
          <a:xfrm>
            <a:off x="2039760" y="4208400"/>
            <a:ext cx="2643480" cy="932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682640" y="136080"/>
            <a:ext cx="7886880" cy="1422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Jak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1682640" y="1279440"/>
            <a:ext cx="7886880" cy="614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Vždy v souladu s pravidly danými v Manuálu vizuální identity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iditelně umístěné a kvalitně proveden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případě použití logolinku bez slovního odkazu na ESF je nutno používat i povinné sdělení: 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ento program/projekt/produkt je spolufinancován  Evropským sociálním fondem a státním rozpočtem České republiky.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(Výjimkou jsou rozměrově menší materiály a předměty.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100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Na čb originálech nutno použít předepsané inverzní varianty log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69" name="Obrázek 6" descr="logolink_bez_vlajkyCR_bar..jpg"/>
          <p:cNvPicPr/>
          <p:nvPr/>
        </p:nvPicPr>
        <p:blipFill>
          <a:blip r:embed="rId2"/>
          <a:stretch/>
        </p:blipFill>
        <p:spPr>
          <a:xfrm>
            <a:off x="3397320" y="3494160"/>
            <a:ext cx="3714840" cy="1062000"/>
          </a:xfrm>
          <a:prstGeom prst="rect">
            <a:avLst/>
          </a:prstGeom>
          <a:ln w="0">
            <a:noFill/>
          </a:ln>
        </p:spPr>
      </p:pic>
      <p:pic>
        <p:nvPicPr>
          <p:cNvPr id="70" name="Obrázek 7" descr="logolink_bez_vlajkyCR_cb.jpg"/>
          <p:cNvPicPr/>
          <p:nvPr/>
        </p:nvPicPr>
        <p:blipFill>
          <a:blip r:embed="rId3"/>
          <a:stretch/>
        </p:blipFill>
        <p:spPr>
          <a:xfrm>
            <a:off x="1897200" y="5351400"/>
            <a:ext cx="3643200" cy="1041480"/>
          </a:xfrm>
          <a:prstGeom prst="rect">
            <a:avLst/>
          </a:prstGeom>
          <a:ln w="0">
            <a:noFill/>
          </a:ln>
        </p:spPr>
      </p:pic>
      <p:pic>
        <p:nvPicPr>
          <p:cNvPr id="71" name="Obrázek 6" descr="Logolink_horizontal_zaklad_cb.jpg"/>
          <p:cNvPicPr/>
          <p:nvPr/>
        </p:nvPicPr>
        <p:blipFill>
          <a:blip r:embed="rId4"/>
          <a:stretch/>
        </p:blipFill>
        <p:spPr>
          <a:xfrm>
            <a:off x="5254560" y="6208560"/>
            <a:ext cx="4389480" cy="107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de prvky publicity použít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a informační materiály: letáky, plakáty, brožury, newslettry, školicí materiály, certifikáty, prezenční listiny (logolink a povinná sdělení stačí uvést pouze na titulní stránce), příp. vizitky a obálk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pagační předměty: tužky, bloky, …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ediální výstupy: inzeráty, tiskové zprávy, články, PPT prezentace…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Internet: webové stránky projek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Hmotné zařízení pořízené z prostředků ES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jektová dokumentace: pracovní smlouvy/dohody (pokud to forma dokumentu umožňuje), výroční a závěrečné zprávy, korespondence,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Místnosti/prostory, v nichž se konají informační akce k OP VK: umístit vlajky EU a ČR, loga EU, ESF, MŠMT, OP V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Dokumenty, odkaz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1682280" y="1422000"/>
            <a:ext cx="800100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říručka pro příjemce finanční podpory z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aktuální 3. verze platná od 21. 10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op-vk-verze-3-platna-od-21-10-2009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, příp. 2. verze platná od 15. 4. 2009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rirucka-pro-prijemce-verze-2-platna-od-15-4-200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Manuál vizuální identity OP VK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uploads/soubory/ESF/Publicita/Manual_vizual_identity_OPVK.pd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Web MŠMT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– sekce Strukturální fondy – OP VK – Pro žadatele a příjemce – Publicita: </a:t>
            </a:r>
            <a:r>
              <a:rPr b="0" lang="cs-CZ" sz="1800" spc="-1" strike="noStrike" u="sng">
                <a:solidFill>
                  <a:srgbClr val="000000"/>
                </a:solidFill>
                <a:uFillTx/>
                <a:latin typeface="Arial"/>
              </a:rPr>
              <a:t>http://www.msmt.cz/strukturalni-fondy/publicita-a-publika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Loga a logolinky ke stažení v různých formátech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ESF v ČR 2007-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Arial"/>
              </a:rPr>
              <a:t>Manuál vizuální identity MŠM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137"/>
              </a:spcAft>
              <a:tabLst>
                <a:tab algn="l" pos="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oradenství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 rámci individuálních konzultací s projektovými manaže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682640" y="301680"/>
            <a:ext cx="788688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42876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Náhled webových stránek MŠMT</a:t>
            </a:r>
            <a:br>
              <a:rPr sz="3600"/>
            </a:b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 sekce Publicit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1682640" y="1767960"/>
            <a:ext cx="788688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8760" indent="-32400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  <p:pic>
        <p:nvPicPr>
          <p:cNvPr id="81" name="Obrázek 7" descr=""/>
          <p:cNvPicPr/>
          <p:nvPr/>
        </p:nvPicPr>
        <p:blipFill>
          <a:blip r:embed="rId2"/>
          <a:srcRect l="9588" t="2379" r="10909" b="5554"/>
          <a:stretch/>
        </p:blipFill>
        <p:spPr>
          <a:xfrm>
            <a:off x="1897200" y="1422360"/>
            <a:ext cx="7715160" cy="5857920"/>
          </a:xfrm>
          <a:prstGeom prst="rect">
            <a:avLst/>
          </a:prstGeom>
          <a:ln w="0">
            <a:noFill/>
          </a:ln>
        </p:spPr>
      </p:pic>
      <p:sp>
        <p:nvSpPr>
          <p:cNvPr id="82" name="Šipka doleva 8"/>
          <p:cNvSpPr/>
          <p:nvPr/>
        </p:nvSpPr>
        <p:spPr>
          <a:xfrm>
            <a:off x="4897440" y="3494160"/>
            <a:ext cx="1571760" cy="642960"/>
          </a:xfrm>
          <a:prstGeom prst="leftArrow">
            <a:avLst>
              <a:gd name="adj1" fmla="val 92667"/>
              <a:gd name="adj2" fmla="val 50000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Šipka doleva 9"/>
          <p:cNvSpPr/>
          <p:nvPr/>
        </p:nvSpPr>
        <p:spPr>
          <a:xfrm>
            <a:off x="2968560" y="5423040"/>
            <a:ext cx="571680" cy="142560"/>
          </a:xfrm>
          <a:prstGeom prst="leftArrow">
            <a:avLst>
              <a:gd name="adj1" fmla="val 50000"/>
              <a:gd name="adj2" fmla="val 50126"/>
            </a:avLst>
          </a:pr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1968480" y="1767960"/>
            <a:ext cx="7601040" cy="515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4400" spc="-1" strike="noStrike">
                <a:solidFill>
                  <a:srgbClr val="f3912c"/>
                </a:solidFill>
                <a:latin typeface="Arial"/>
              </a:rPr>
              <a:t>Děkuji za pozornos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Arial"/>
              </a:rPr>
              <a:t>Kontak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gr. Simona Dvořáčkov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komunikační úředn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Odbor řízení OP V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nisterstvo školství, mládeže a tělovýchovy Č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e-mail: </a:t>
            </a:r>
            <a:r>
              <a:rPr b="0" lang="cs-CZ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imona.dvorackova@msmt.cz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20120" indent="-31752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"/>
          <p:cNvPicPr/>
          <p:nvPr/>
        </p:nvPicPr>
        <p:blipFill>
          <a:blip r:embed="rId2"/>
          <a:stretch/>
        </p:blipFill>
        <p:spPr>
          <a:xfrm>
            <a:off x="0" y="277956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gh</cp:lastModifiedBy>
  <dcterms:modified xsi:type="dcterms:W3CDTF">2009-12-10T12:01:02Z</dcterms:modified>
  <cp:revision>92</cp:revision>
  <dc:subject/>
  <dc:title>Snímek 1</dc:title>
</cp:coreProperties>
</file>